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489-0690-43BD-9BAA-B27C96C4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8E3-E4E1-45C0-9E9E-20C05EA7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00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086-36A6-4A4A-BA56-872031B0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5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30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5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30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A8A-6D4E-441E-99F6-BC2E63BC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583F-D010-4C92-A3F8-96E6B602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40C6-0358-42FB-874F-F4C5DF97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4745-4878-49AD-8561-CF9F2A23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5DCE-CED0-48C4-8E5B-30270100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25B2-5CDD-4FED-84EA-42895AB2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8080" y="255600"/>
            <a:ext cx="7777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29D4-632A-4041-80BE-43A23B60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C204-5EAA-42FC-B208-8B9EF459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A72-BE40-443F-AD26-431A28D8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0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7F16-5FED-4F5D-A93D-148FA9AE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34F8-C4CD-483E-86B3-095BE026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E6A8-09E7-4C06-A6BE-31B3D57F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0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3C22-963A-4C22-A870-3EFC7842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5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0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5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0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C12D-A61B-4FAA-9C9C-03DC4AAA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DEF-E32C-4FF5-87BE-FB1377C4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2AA-7ABA-4A4F-B8E1-2B0023F8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744-E726-4BCB-B90A-14638877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255600"/>
            <a:ext cx="7777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270-8353-455B-A9A8-A7ED9765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11C-5E04-40DF-A27D-675B5F45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00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01F-7611-482E-B18B-E63D86F3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0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D07-1C3D-4F6E-8217-A785AE09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99960" y="209520"/>
            <a:ext cx="1524240" cy="1523880"/>
            <a:chOff x="399960" y="209520"/>
            <a:chExt cx="1524240" cy="1523880"/>
          </a:xfrm>
        </p:grpSpPr>
        <p:sp>
          <p:nvSpPr>
            <p:cNvPr id="1" name=""/>
            <p:cNvSpPr txBox="1"/>
            <p:nvPr/>
          </p:nvSpPr>
          <p:spPr>
            <a:xfrm>
              <a:off x="399960" y="209520"/>
              <a:ext cx="152424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1161360" y="209520"/>
              <a:ext cx="762480" cy="762480"/>
            </a:xfrm>
            <a:prstGeom prst="rect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399960" y="209520"/>
              <a:ext cx="762480" cy="76248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 txBox="1"/>
            <p:nvPr/>
          </p:nvSpPr>
          <p:spPr>
            <a:xfrm>
              <a:off x="1161360" y="970560"/>
              <a:ext cx="762480" cy="762480"/>
            </a:xfrm>
            <a:prstGeom prst="rect">
              <a:avLst/>
            </a:prstGeom>
            <a:solidFill>
              <a:srgbClr val="006666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399960" y="970560"/>
              <a:ext cx="762480" cy="762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55600"/>
            <a:ext cx="77774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38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27636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699E5B-E994-43C4-B9A9-63361C6F70F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0" y="1866960"/>
            <a:ext cx="2019240" cy="2019240"/>
            <a:chOff x="0" y="1866960"/>
            <a:chExt cx="2019240" cy="2019240"/>
          </a:xfrm>
        </p:grpSpPr>
        <p:sp>
          <p:nvSpPr>
            <p:cNvPr id="48" name=""/>
            <p:cNvSpPr txBox="1"/>
            <p:nvPr/>
          </p:nvSpPr>
          <p:spPr>
            <a:xfrm>
              <a:off x="0" y="1866960"/>
              <a:ext cx="2019240" cy="2019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1008720" y="1866960"/>
              <a:ext cx="1010160" cy="1010160"/>
            </a:xfrm>
            <a:prstGeom prst="rect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0" y="1866960"/>
              <a:ext cx="1010160" cy="101016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1008720" y="2875680"/>
              <a:ext cx="1010160" cy="1010160"/>
            </a:xfrm>
            <a:prstGeom prst="rect">
              <a:avLst/>
            </a:prstGeom>
            <a:solidFill>
              <a:srgbClr val="006666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0" y="2875680"/>
              <a:ext cx="1010160" cy="10101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141280"/>
            <a:ext cx="77706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5CD6EE-70E8-47F6-9BFB-2A2EFE1E4E8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Зона субтропиков 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929120" y="3929040"/>
            <a:ext cx="378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и: студентки 2 курса, группы «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циальность 44.02.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хтарова Зенфира и Нураева Земф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Животный мир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859280" y="1619280"/>
            <a:ext cx="4140360" cy="3959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5580000" y="558000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ной к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360360" y="1619280"/>
            <a:ext cx="4319640" cy="395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268280" y="5541840"/>
            <a:ext cx="1971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су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3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993600" y="4859280"/>
            <a:ext cx="81504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тицы: фазан, беркут, чай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4319640" cy="3419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800360" y="539640"/>
            <a:ext cx="774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секом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39640" y="5362560"/>
            <a:ext cx="3908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ужелица кавказ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9840" y="5362560"/>
            <a:ext cx="1730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гомо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5219640" y="1979640"/>
            <a:ext cx="378000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360" y="17928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Птицы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60360" y="1619280"/>
            <a:ext cx="4140360" cy="3600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885960" y="4859280"/>
            <a:ext cx="2714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павл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4680000" y="1619280"/>
            <a:ext cx="4319640" cy="3600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5924520" y="5040360"/>
            <a:ext cx="2174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фаз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Дельфин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008000" y="1800360"/>
            <a:ext cx="727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1480" y="5140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Почвы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979640" y="1778040"/>
            <a:ext cx="5580000" cy="39830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417760" y="5580000"/>
            <a:ext cx="4062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каштанов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1480" y="184320"/>
            <a:ext cx="7778880" cy="14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Полезные ископаемые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73200" y="1619280"/>
            <a:ext cx="3467160" cy="270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5400720" y="1357200"/>
            <a:ext cx="3193920" cy="2962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2879640" y="4500720"/>
            <a:ext cx="4500720" cy="1979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74680" y="4282920"/>
            <a:ext cx="4226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66"/>
                </a:solidFill>
                <a:latin typeface="Times New Roman"/>
              </a:rPr>
              <a:t>Кварцевый пес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728880" y="6459480"/>
            <a:ext cx="203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66"/>
                </a:solidFill>
                <a:latin typeface="Times New Roman"/>
              </a:rPr>
              <a:t>Железная 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508880" y="4281480"/>
            <a:ext cx="203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66"/>
                </a:solidFill>
                <a:latin typeface="Times New Roman"/>
              </a:rPr>
              <a:t>известня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Человек у моря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щивание ценных культур: чая, лимона, мандарина, винограда, граната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номорское побережье Кавказа как курортная зо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ыболовство, лов крабов, кревет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едение мидий ( в специальных бассейнах с чистой водо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дикорастущих растений субтропиков человеком( древесина, лекарственное сырьё, строительный материа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Географическое положение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9280" y="1440000"/>
            <a:ext cx="774036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она субтропиков в России находится на побережье Черного моря (от Туапсе до границы с Абхазией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440000" y="2340000"/>
            <a:ext cx="701964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Климат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619280"/>
            <a:ext cx="43531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Климат морской, много осадк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Зима короткая и тёпл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140360" y="1440000"/>
            <a:ext cx="4859280" cy="52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Растительный мир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8320" y="1825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евесные породы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60360" y="2519280"/>
            <a:ext cx="3959280" cy="3060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39640" y="5580000"/>
            <a:ext cx="324036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к восточ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680000" y="2519280"/>
            <a:ext cx="3975120" cy="3146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580000" y="5580000"/>
            <a:ext cx="28796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ецкий оре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3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1120" y="-179280"/>
            <a:ext cx="7418520" cy="23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Декоративные растения: 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0360" y="1876320"/>
            <a:ext cx="3959280" cy="31640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835200" y="5040360"/>
            <a:ext cx="2765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ль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680000" y="1906560"/>
            <a:ext cx="3965400" cy="3133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5334120" y="5040360"/>
            <a:ext cx="2765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гно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4140360" cy="3419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1089000" y="5430960"/>
            <a:ext cx="324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вкалип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859280" y="196200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5040360" y="5400720"/>
            <a:ext cx="377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ция серебрис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360360"/>
            <a:ext cx="7778520" cy="14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Крупные кустарники 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39640" y="1924200"/>
            <a:ext cx="4140360" cy="3474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079640" y="5145120"/>
            <a:ext cx="2700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самши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5400720" y="1800360"/>
            <a:ext cx="3446280" cy="3779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649840" y="5356080"/>
            <a:ext cx="3170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лавровиш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Эвкалипт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851280" y="1628640"/>
            <a:ext cx="4753080" cy="4897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50920" y="1844640"/>
            <a:ext cx="3168720" cy="47530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19120" y="2082960"/>
            <a:ext cx="2684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ное растение. Из его прочной древесины делают крепёжные сваи. Сучки и ветки перерабатывают в бумагу. Из листьев извлекают эфирное масло, которое используют в медицине и парфюмерии, а из коры- дубильные веществ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              </a:t>
            </a: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Самшит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7416720" cy="3816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384200" y="589932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АЮТ МУЗЫКАЛЬНЫЕ ИНСТРУМЕНТЫ,ТРОСТИ,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АТУЛКИ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3:00:24Z</dcterms:created>
  <dc:creator>PC00</dc:creator>
  <dc:description/>
  <dc:language>en-US</dc:language>
  <cp:lastModifiedBy>123</cp:lastModifiedBy>
  <dcterms:modified xsi:type="dcterms:W3CDTF">2017-05-10T12:04:16Z</dcterms:modified>
  <cp:revision>19</cp:revision>
  <dc:subject/>
  <dc:title>           Зона субтропико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